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F4B01-BD58-43F5-99CB-5F02F4843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613A6-9804-4265-B7B4-F8D740990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863E-BB06-4814-9E2C-40831C1D1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91633-E0A1-4E73-8B6C-4B92A3EA9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81364-FC2D-448C-B927-149E4DFC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EF9F-376D-45AD-9D10-79E73366E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676A-C5DD-4651-91F2-F4C2F39F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4110-2E6D-41EA-A9EA-686F45FDE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ED854-71A5-4E33-BE9D-B7CE18E0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6311-1952-4C93-AC89-161346D0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0817-B5B9-48ED-B0DE-C23C9DE2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2913-508E-4DD3-85F3-42346041D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23CE-0220-44EF-8A5C-9A2D4BAF8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choo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rew</a:t>
            </a:r>
            <a:endParaRPr b="0" lang="en-US" sz="3200" spc="-1" strike="noStrike">
              <a:solidFill>
                <a:srgbClr val="000000"/>
              </a:solidFill>
              <a:latin typeface="Times New Roman"/>
            </a:endParaRPr>
          </a:p>
        </p:txBody>
      </p:sp>
      <p:pic>
        <p:nvPicPr>
          <p:cNvPr id="43" name="logo1" descr=""/>
          <p:cNvPicPr/>
          <p:nvPr/>
        </p:nvPicPr>
        <p:blipFill>
          <a:blip r:embed="rId1"/>
          <a:stretch/>
        </p:blipFill>
        <p:spPr>
          <a:xfrm>
            <a:off x="3352680" y="838080"/>
            <a:ext cx="26672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our school</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1981080"/>
            <a:ext cx="38862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rmony roo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uter  roo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ner ro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u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mb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kt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class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a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day </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 get in to school I play footbal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go in to class and then do whork</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 to a asembaly</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n go out to play </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n have dinner then go out for dinner  play</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e into class and do work and when its ply time we will go out then well come back into class do worke till its play time then go freeeeee timeeee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teacher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harp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ston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s. jon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tho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ss.tho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r.rob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robi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dix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willeum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9:50:18Z</dcterms:created>
  <dc:creator>4glenb2</dc:creator>
  <dc:description/>
  <dc:language>en-US</dc:language>
  <cp:lastModifiedBy>4glenb2</cp:lastModifiedBy>
  <dcterms:modified xsi:type="dcterms:W3CDTF">2009-09-30T10:36:09Z</dcterms:modified>
  <cp:revision>2</cp:revision>
  <dc:subject/>
  <dc:title>Our  school</dc:title>
</cp:coreProperties>
</file>